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C692-254C-49AC-9702-305FFB538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77B4-6FCE-43F8-8E29-B267FD9C7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AFA-F05C-4A27-9CA5-2D36DB4B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029-7294-497D-85C7-91100635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89D-6AF5-42DC-B09C-62A85D40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22E-F6A7-4358-B866-74728EEE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045-EB2A-4658-8FD2-04C7F281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19B-6DC8-49EA-8281-00DF0D4C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DD9-0E9F-4D0A-8B50-4053177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A52-4702-441D-85AC-4FC4E06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6CB-8BF2-4C08-A4F6-387BC18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987-6B11-42A8-BE31-5D0D27E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B1A-52E5-4F69-9C81-7E66EED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F65-C6FB-4C43-86EF-195CA52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D4D-4DF6-49DF-AA6B-ACCB9EEE4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603360" y="249120"/>
            <a:ext cx="7785000" cy="179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09088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3733920" y="3352680"/>
            <a:ext cx="2070000" cy="214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6705720" y="1582560"/>
            <a:ext cx="1778040" cy="19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6705720" y="4038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6"/>
          <a:stretch/>
        </p:blipFill>
        <p:spPr>
          <a:xfrm>
            <a:off x="838080" y="4343400"/>
            <a:ext cx="17128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Hsieh\桌面\class pic\st-675840-2.jpg"/>
          <p:cNvPicPr/>
          <p:nvPr/>
        </p:nvPicPr>
        <p:blipFill>
          <a:blip r:embed="rId1"/>
          <a:stretch/>
        </p:blipFill>
        <p:spPr>
          <a:xfrm>
            <a:off x="3962520" y="4446720"/>
            <a:ext cx="2666880" cy="21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167652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Cj04402210000[1]"/>
          <p:cNvPicPr/>
          <p:nvPr/>
        </p:nvPicPr>
        <p:blipFill>
          <a:blip r:embed="rId3"/>
          <a:stretch/>
        </p:blipFill>
        <p:spPr>
          <a:xfrm>
            <a:off x="914400" y="4275000"/>
            <a:ext cx="2765520" cy="2273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788400" y="175248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你</a:t>
            </a: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64720" y="281952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他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33520" y="5335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我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908080" y="1828800"/>
            <a:ext cx="6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 flipH="1">
            <a:off x="5562000" y="1752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做什麽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6781680" y="4267080"/>
            <a:ext cx="186696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8080" y="457200"/>
          <a:ext cx="3886200" cy="10065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iǎo niǎo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9480" y="3276720"/>
          <a:ext cx="3251160" cy="914400"/>
        </p:xfrm>
        <a:graphic>
          <a:graphicData uri="http://schemas.openxmlformats.org/drawingml/2006/table">
            <a:tbl>
              <a:tblPr/>
              <a:tblGrid>
                <a:gridCol w="325116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hù yè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81280" y="1828800"/>
          <a:ext cx="5327640" cy="91440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áo máo chón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280" y="5029200"/>
          <a:ext cx="3276720" cy="9144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ǎ lǐ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5"/>
          <p:cNvSpPr/>
          <p:nvPr/>
        </p:nvSpPr>
        <p:spPr>
          <a:xfrm>
            <a:off x="5727600" y="4191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文鼎通用寬拼音C1"/>
                <a:ea typeface="文鼎通用寬拼音C1"/>
              </a:rPr>
              <a:t>大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2280" y="457200"/>
          <a:ext cx="3054600" cy="914400"/>
        </p:xfrm>
        <a:graphic>
          <a:graphicData uri="http://schemas.openxmlformats.org/drawingml/2006/table">
            <a:tbl>
              <a:tblPr/>
              <a:tblGrid>
                <a:gridCol w="305460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小鳥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172200" y="5181480"/>
          <a:ext cx="2298600" cy="1006560"/>
        </p:xfrm>
        <a:graphic>
          <a:graphicData uri="http://schemas.openxmlformats.org/drawingml/2006/table">
            <a:tbl>
              <a:tblPr/>
              <a:tblGrid>
                <a:gridCol w="22986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大樹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1600200"/>
          <a:ext cx="3581280" cy="10065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毛毛蟲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33520" y="2895480"/>
          <a:ext cx="2286000" cy="10065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樹葉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520" y="4876920"/>
          <a:ext cx="2361960" cy="100620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100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哪裡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1676160" cy="177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1778040" cy="19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1712880" cy="206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5791320" y="228600"/>
            <a:ext cx="190476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5"/>
          <a:stretch/>
        </p:blipFill>
        <p:spPr>
          <a:xfrm>
            <a:off x="6324480" y="2998800"/>
            <a:ext cx="16765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533600" y="914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Calibri"/>
                <a:ea typeface="新細明體"/>
              </a:rPr>
              <a:t>小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2610000" y="1603440"/>
            <a:ext cx="2498400" cy="3217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6884280" y="91440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唱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7267320" y="2666880"/>
            <a:ext cx="66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0000"/>
                </a:solidFill>
                <a:latin typeface="SimSun"/>
                <a:ea typeface="SimSun"/>
              </a:rPr>
              <a:t>飛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881040" y="464832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睡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ircular Arrow 9"/>
          <p:cNvSpPr/>
          <p:nvPr/>
        </p:nvSpPr>
        <p:spPr>
          <a:xfrm rot="19099200">
            <a:off x="4419720" y="1295280"/>
            <a:ext cx="2133360" cy="167652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ircular Arrow 12"/>
          <p:cNvSpPr/>
          <p:nvPr/>
        </p:nvSpPr>
        <p:spPr>
          <a:xfrm>
            <a:off x="4800600" y="2590920"/>
            <a:ext cx="2133720" cy="167616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ircular Arrow 13"/>
          <p:cNvSpPr/>
          <p:nvPr/>
        </p:nvSpPr>
        <p:spPr>
          <a:xfrm>
            <a:off x="4572000" y="3886200"/>
            <a:ext cx="2133720" cy="167652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tangle 15" descr=""/>
          <p:cNvPicPr/>
          <p:nvPr/>
        </p:nvPicPr>
        <p:blipFill>
          <a:blip r:embed="rId2"/>
          <a:stretch/>
        </p:blipFill>
        <p:spPr>
          <a:xfrm>
            <a:off x="291960" y="3657600"/>
            <a:ext cx="38959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83120" y="457200"/>
            <a:ext cx="164376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0000"/>
                </a:solidFill>
                <a:latin typeface="SimSun"/>
                <a:ea typeface="SimSun"/>
              </a:rPr>
              <a:t>毛毛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SimSun"/>
                <a:ea typeface="SimSu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927680" y="2743200"/>
            <a:ext cx="195516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哪</a:t>
            </a:r>
            <a:r>
              <a:rPr b="1" lang="zh-TW" sz="8000" spc="-1" strike="noStrike">
                <a:solidFill>
                  <a:srgbClr val="ff0000"/>
                </a:solidFill>
                <a:latin typeface="SimSun"/>
                <a:ea typeface="SimSun"/>
              </a:rPr>
              <a:t>裡</a:t>
            </a:r>
            <a:r>
              <a:rPr b="1" lang="zh-CN" sz="8000" spc="-1" strike="noStrike">
                <a:solidFill>
                  <a:srgbClr val="ff0000"/>
                </a:solidFill>
                <a:latin typeface="SimSun"/>
                <a:ea typeface="SimSu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191120" y="685800"/>
            <a:ext cx="167616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6553080" y="457200"/>
            <a:ext cx="1778040" cy="197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4114800" y="4648320"/>
            <a:ext cx="1676520" cy="173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7696080" y="2438280"/>
            <a:ext cx="1143000" cy="137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67616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438280" y="0"/>
            <a:ext cx="1778040" cy="1979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632880" y="533520"/>
            <a:ext cx="31842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SimSun"/>
                <a:ea typeface="SimSun"/>
              </a:rPr>
              <a:t>樹葉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SimSun"/>
                <a:ea typeface="SimSun"/>
              </a:rPr>
              <a:t>摇</a:t>
            </a:r>
            <a:r>
              <a:rPr b="1" lang="fr-FR" sz="4800" spc="-1" strike="noStrike">
                <a:solidFill>
                  <a:srgbClr val="ff0000"/>
                </a:solidFill>
                <a:latin typeface="Times New Roman"/>
                <a:ea typeface="SimSun"/>
              </a:rPr>
              <a:t>(verbes)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054320" y="2438280"/>
            <a:ext cx="12445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SimSun"/>
              </a:rPr>
              <a:t>那裡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676520" cy="28018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4827600" y="249120"/>
            <a:ext cx="2736720" cy="243864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6" descr=""/>
          <p:cNvPicPr/>
          <p:nvPr/>
        </p:nvPicPr>
        <p:blipFill>
          <a:blip r:embed="rId4"/>
          <a:stretch/>
        </p:blipFill>
        <p:spPr>
          <a:xfrm>
            <a:off x="4681440" y="4516560"/>
            <a:ext cx="4432320" cy="243828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8"/>
          <p:cNvSpPr/>
          <p:nvPr/>
        </p:nvSpPr>
        <p:spPr>
          <a:xfrm flipH="1">
            <a:off x="4722480" y="1440"/>
            <a:ext cx="32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singing 090909.jpg"/>
          <p:cNvPicPr/>
          <p:nvPr/>
        </p:nvPicPr>
        <p:blipFill>
          <a:blip r:embed="rId5"/>
          <a:stretch/>
        </p:blipFill>
        <p:spPr>
          <a:xfrm>
            <a:off x="5791320" y="2286000"/>
            <a:ext cx="1261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38080" y="685800"/>
          <a:ext cx="2476800" cy="1006560"/>
        </p:xfrm>
        <a:graphic>
          <a:graphicData uri="http://schemas.openxmlformats.org/drawingml/2006/table">
            <a:tbl>
              <a:tblPr/>
              <a:tblGrid>
                <a:gridCol w="24768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ái zì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562720" y="3809880"/>
          <a:ext cx="3327120" cy="914400"/>
        </p:xfrm>
        <a:graphic>
          <a:graphicData uri="http://schemas.openxmlformats.org/drawingml/2006/table">
            <a:tbl>
              <a:tblPr/>
              <a:tblGrid>
                <a:gridCol w="332712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ué  xià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990720" y="5334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Xu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01924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152388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2783160" y="5257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文鼎通用寬拼音C2"/>
              </a:rPr>
              <a:t>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28600" y="914400"/>
          <a:ext cx="3098880" cy="91440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ué  xià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" y="4724280"/>
          <a:ext cx="2476440" cy="91440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ái zì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4"/>
          <p:cNvSpPr/>
          <p:nvPr/>
        </p:nvSpPr>
        <p:spPr>
          <a:xfrm>
            <a:off x="459360" y="2743200"/>
            <a:ext cx="114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Xu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02140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文鼎通用寬拼音C2"/>
              </a:rPr>
              <a:t>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124080" y="2895480"/>
          <a:ext cx="1676520" cy="9144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生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05320" y="914400"/>
          <a:ext cx="1815840" cy="1006560"/>
        </p:xfrm>
        <a:graphic>
          <a:graphicData uri="http://schemas.openxmlformats.org/drawingml/2006/table">
            <a:tbl>
              <a:tblPr/>
              <a:tblGrid>
                <a:gridCol w="181584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校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286000" y="4876920"/>
          <a:ext cx="2476440" cy="91440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孩子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9"/>
          <p:cNvSpPr/>
          <p:nvPr/>
        </p:nvSpPr>
        <p:spPr>
          <a:xfrm>
            <a:off x="5867280" y="4191120"/>
            <a:ext cx="297180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哪</a:t>
            </a:r>
            <a:r>
              <a:rPr b="1" lang="zh-TW" sz="8000" spc="-1" strike="noStrike">
                <a:solidFill>
                  <a:srgbClr val="ff0000"/>
                </a:solidFill>
                <a:latin typeface="SimSun"/>
                <a:ea typeface="SimSun"/>
              </a:rPr>
              <a:t>裡</a:t>
            </a:r>
            <a:r>
              <a:rPr b="1" lang="zh-CN" sz="8000" spc="-1" strike="noStrike">
                <a:solidFill>
                  <a:srgbClr val="ff0000"/>
                </a:solidFill>
                <a:latin typeface="SimSun"/>
                <a:ea typeface="SimSu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057440" y="2057400"/>
            <a:ext cx="712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ight Arrow 11"/>
          <p:cNvSpPr/>
          <p:nvPr/>
        </p:nvSpPr>
        <p:spPr>
          <a:xfrm>
            <a:off x="5257800" y="3048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ight Arrow 12"/>
          <p:cNvSpPr/>
          <p:nvPr/>
        </p:nvSpPr>
        <p:spPr>
          <a:xfrm rot="1171200">
            <a:off x="5332320" y="158076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ight Arrow 13"/>
          <p:cNvSpPr/>
          <p:nvPr/>
        </p:nvSpPr>
        <p:spPr>
          <a:xfrm rot="20680200">
            <a:off x="4178160" y="4916160"/>
            <a:ext cx="1544760" cy="6858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076480" cy="311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01924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715000" y="1066680"/>
            <a:ext cx="2209680" cy="22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85800" y="4572000"/>
          <a:ext cx="1600200" cy="9144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生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05320" y="4495680"/>
          <a:ext cx="1815840" cy="1006560"/>
        </p:xfrm>
        <a:graphic>
          <a:graphicData uri="http://schemas.openxmlformats.org/drawingml/2006/table">
            <a:tbl>
              <a:tblPr/>
              <a:tblGrid>
                <a:gridCol w="181584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校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15000" y="4419720"/>
          <a:ext cx="2476440" cy="91440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孩子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7:15:43Z</dcterms:created>
  <dc:creator>Monica</dc:creator>
  <dc:description/>
  <dc:language>en-US</dc:language>
  <cp:lastModifiedBy>Monica</cp:lastModifiedBy>
  <dcterms:modified xsi:type="dcterms:W3CDTF">2009-10-22T08:51:11Z</dcterms:modified>
  <cp:revision>3</cp:revision>
  <dc:subject/>
  <dc:title>Slide 1</dc:title>
</cp:coreProperties>
</file>